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EFBE-B990-41F6-A252-3B62C642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F72B-98F0-49FE-A9F8-18485317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D62-A082-48C1-AD9D-4122FEB4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B152-0093-4407-90B3-F50EDF99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53EA-97A8-4152-B05B-9381D44E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12EE-F6AB-4860-80F3-D358D93B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DA47-C708-474E-830E-6B1A4CEB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E26B-7090-49F2-89E3-9D639C99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4182-3D92-4215-97E7-1854C76B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6577-9D55-4244-A0E5-2CB92200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FCB2-1CAB-4E7A-8B5D-C1A3A71F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6D3D-E62C-4383-9BB3-44A0F6E2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58E8-91AA-465A-87D6-54A40647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8B44-3B97-414C-8BF7-09B5F985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72F3-56AC-41EF-8387-D2FEDE6F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40C7-4836-471C-8D23-A2567C31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FD6A-E0C3-4463-A47E-C28D4C3A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5E46-F970-4CC8-B7FB-362AB0C9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09DC-EF02-472C-AAA1-BC2B2F3D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AC8C-7DE8-48BC-A0C6-EF54FF8A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6337-C9B5-451A-98D8-58F2BC1C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94B5-A7EC-454E-B20F-20A48C42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B26D-974D-4760-9CA1-4A837031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8EFE-B5D5-4A6B-8B99-A44E0879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47A1-8D80-4F81-984A-592CE42A0E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8F30-FB36-4B50-8D5A-6DA3C058E0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ЛИДЕРСТВО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одели лидерст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57200" y="171936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Трансформационо лиде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идерство које утиче на чланове да постижу екстраординарне перформансе у условима иновација и пром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Квалитети трансформационог лидер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Визија: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ма идеје и смисао за управљ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Ха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Симболизам: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дентификује “хероје”, даје посебне награде, промови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Унапређење: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маже развој друг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Шта је лидерство?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Деф: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Процес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инспирисањ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других да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појачају напор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остваривању заједничких циљев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идери треба да имају и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моћ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да би утицали на дру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Деф: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Моћ је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способност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да се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утич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на друге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да рад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оно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што ми желимо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звори моћ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04920" y="1905120"/>
          <a:ext cx="8610480" cy="396216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Моћ позициј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Лична мо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 Моћ </a:t>
                      </a:r>
                      <a:r>
                        <a:rPr b="0" lang="sr-R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грађивањ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 </a:t>
                      </a:r>
                      <a:r>
                        <a:rPr b="0" lang="sr-R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кспертна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о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79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 Моћ </a:t>
                      </a:r>
                      <a:r>
                        <a:rPr b="0" lang="sr-R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иси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 </a:t>
                      </a:r>
                      <a:r>
                        <a:rPr b="0" lang="sr-R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еферентна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о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 </a:t>
                      </a:r>
                      <a:r>
                        <a:rPr b="0" lang="sr-R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егитимна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о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аџ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Лидер </a:t>
            </a:r>
            <a:r>
              <a:rPr b="1" lang="en-US" sz="4400" spc="-1" strike="noStrike">
                <a:solidFill>
                  <a:srgbClr val="ff7547"/>
                </a:solidFill>
                <a:latin typeface="Arial"/>
              </a:rPr>
              <a:t>vs. </a:t>
            </a: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наџер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447920" y="1523880"/>
          <a:ext cx="6095880" cy="49881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наџе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корочно орјентис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горочно орјентис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ржа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урсна мо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претативна мо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ира, организује, контроли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ишља и води проме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оводи визиј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ира визиј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 ка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 зашто и зашто 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и ствари на прави нач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и праве ства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љ: ефикас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љ: ефектив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министр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овато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жи слич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жи разли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ар </a:t>
                      </a:r>
                      <a:r>
                        <a:rPr b="0" i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ј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пствена лич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инципи визионарског лидерст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Бити пионир</a:t>
            </a: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– подстицати иновације и подржавати људе са иде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Бити ентузијаста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нспирисати друге кроз лични ентузијазам да учествују у заједничкој виз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Помагати друге да делују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бити идол тима и подржати напор и таленте друг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Дати пример</a:t>
            </a: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– обезбедити конзистентан модел улоге како други могу и треба да ра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Прославити успех</a:t>
            </a: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– уносити емоцију у радном место (“радити срцем колико и главом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одели лидерст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04920" y="1523880"/>
          <a:ext cx="8610480" cy="5070600"/>
        </p:xfrm>
        <a:graphic>
          <a:graphicData uri="http://schemas.openxmlformats.org/drawingml/2006/table">
            <a:tbl>
              <a:tblPr/>
              <a:tblGrid>
                <a:gridCol w="2347920"/>
                <a:gridCol w="782640"/>
                <a:gridCol w="782640"/>
                <a:gridCol w="784080"/>
                <a:gridCol w="782640"/>
                <a:gridCol w="782640"/>
                <a:gridCol w="782640"/>
                <a:gridCol w="782640"/>
                <a:gridCol w="782640"/>
              </a:tblGrid>
              <a:tr h="52452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длеров модел лиде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с лидер-ч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ш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женост зада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ћ пози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а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а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а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а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а ситуа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ло вис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ло н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ферирани </a:t>
                      </a:r>
                      <a:r>
                        <a:rPr b="1" lang="sr-R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идерски ст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5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5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5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5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54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547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л орјентисан према задатаку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аду, производњи, услугам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л орјентисан према релацијама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рема људим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cxnSp>
        <p:nvCxnSpPr>
          <p:cNvPr id="167" name="Straight Arrow Connector 6"/>
          <p:cNvCxnSpPr/>
          <p:nvPr/>
        </p:nvCxnSpPr>
        <p:spPr>
          <a:xfrm>
            <a:off x="4495320" y="4419360"/>
            <a:ext cx="2591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одели лидерст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09480" y="1542960"/>
          <a:ext cx="7925040" cy="5315040"/>
        </p:xfrm>
        <a:graphic>
          <a:graphicData uri="http://schemas.openxmlformats.org/drawingml/2006/table">
            <a:tbl>
              <a:tblPr/>
              <a:tblGrid>
                <a:gridCol w="1981440"/>
                <a:gridCol w="1981080"/>
                <a:gridCol w="1981080"/>
                <a:gridCol w="1981440"/>
              </a:tblGrid>
              <a:tr h="592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Херси – Бланшаров модел лиде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ечна спремност следбеника да извршавају задат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</a:tr>
              <a:tr h="59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и и желе (или су поузда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и, али не желе (или су несигур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у способни, али желе (или су поузда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у способни и не желе (или су несигур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елегирање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група доноси и узима одговорност за одлуке; стил слабог понашања и слабих рел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артиципација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наглашавање учешћа идеја и партиципативних одлука; стил високих интера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беђивање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објашњавање одлука и обезбеђивање услова; стил високе орјентације према однос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општавање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давање специфичних директива и контрола перфоманси; стил слабе интерак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Up-Down Arrow 9"/>
          <p:cNvSpPr/>
          <p:nvPr/>
        </p:nvSpPr>
        <p:spPr>
          <a:xfrm rot="16200000">
            <a:off x="2317680" y="2178000"/>
            <a:ext cx="164880" cy="990360"/>
          </a:xfrm>
          <a:prstGeom prst="upDownArrow">
            <a:avLst>
              <a:gd name="adj1" fmla="val 50000"/>
              <a:gd name="adj2" fmla="val 49888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Up-Down Arrow 10"/>
          <p:cNvSpPr/>
          <p:nvPr/>
        </p:nvSpPr>
        <p:spPr>
          <a:xfrm rot="16200000">
            <a:off x="6844320" y="2147040"/>
            <a:ext cx="179280" cy="1066680"/>
          </a:xfrm>
          <a:prstGeom prst="upDownArrow">
            <a:avLst>
              <a:gd name="adj1" fmla="val 50000"/>
              <a:gd name="adj2" fmla="val 50160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одели лидерст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57200" y="171936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Хаусов модел лидерства (“пут – циљ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спешан лидер је способан да реши </a:t>
            </a: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ситуационе фактор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који запосленима стоје на </a:t>
            </a: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путу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да постигну </a:t>
            </a: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циљев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4 стила лидерств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идерство засновано на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директи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идерство засн. на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подршци чланова гру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идерство засновано на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остваривању задат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Партиципативно лиде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одели лидерст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57200" y="171936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Врум - Јаго модел лиде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идер стил бира у складу са проблемима које реш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3 стила лидерств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Ауторитаран ст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Консултативан ст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Групни ст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02T23:36:23Z</dcterms:modified>
  <cp:revision>181</cp:revision>
  <dc:subject/>
  <dc:title>Soft and Hard Skills Development: A Current Situation in Serbian Companies</dc:title>
</cp:coreProperties>
</file>